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5.png" ContentType="image/png"/>
  <Override PartName="/ppt/media/image16.wmf" ContentType="image/x-wmf"/>
  <Override PartName="/ppt/media/image14.jpeg" ContentType="image/jpeg"/>
  <Override PartName="/ppt/media/image1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4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106D-B687-49CF-93C5-16AE302BD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CC63-EBEB-4D6F-BF19-D50DD2002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6892-F3C0-459D-8008-FFE125251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81C7-E31B-4C23-AFC1-FF10CAD94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D5188-0D93-4522-8F70-7A3729193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D1D89-7630-43E4-A641-74DA5755F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61057-761A-49EE-B9AD-E719AEB57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936DE-DA68-4C71-B70A-F4150592B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127EA-AE8F-4CA1-BB11-A26272727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75A9A-FD64-485E-9DED-AA8D15886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273AC-C915-4A4D-A4CE-85C5142D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C50B-95CC-479A-8A8A-DCD331F4D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97B7A-2894-4FA6-9B8E-6ADDB393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2B81C-7A7E-4A44-97EF-2186347C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F4DD1-5038-466E-9E8E-32E45AAC3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2ECB9-82F6-4125-AE70-9BFBB0FF8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FAC10-D34F-45C4-9747-6868C15A4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E3B5-C11C-43AC-B06A-1404E6497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8317-6025-4FFA-A3F5-821F943BB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9B96-E5FC-48B3-8017-479072560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CF02-7CDA-40DD-AC2E-2B3B4090C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1C16-4E53-44BC-B329-29CD8312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F684-CA21-4931-9E5A-D1FEA783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8AA0-6B41-4468-B84B-59E21123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86DB4-E3D4-4650-AB6A-E888815A3E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895480"/>
            <a:ext cx="9147240" cy="1063800"/>
            <a:chOff x="-3600" y="28954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936880"/>
              <a:ext cx="9147240" cy="1012320"/>
              <a:chOff x="-3600" y="29368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1185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31071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31064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32389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32083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31543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31975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30996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30985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32310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32004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31471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31888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31075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31064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32313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9368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31471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31885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8954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6590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CB303-4672-4DC9-96E1-A235CA730E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Arial"/>
              </a:rPr>
              <a:t>DISEÑO Y ELABORACION DE MATERIAL EDUCATIVO EN POWERPOIN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362320" y="57909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MM-UP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4. PRESENTAR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71600" y="1371600"/>
            <a:ext cx="7086600" cy="492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 Asuma la actitud de un profesional al impartir una present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 Consiga una primera impresión positiva. Sonr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 Controle el tono de su vo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 Sea sincero, y establezca una relación de comunicación con el publ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 Prepárese para manejar intervenciones del públ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301840" y="1679400"/>
            <a:ext cx="4540320" cy="3497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onsejos prácticos sobre cómo preparar una presentación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905120"/>
            <a:ext cx="7086600" cy="367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 Prepare un borrador de su pres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 No abuse de los colores, fondos, imágenes, sonidos, efectos de animación y tipos de letr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 Guarde unidad, coherencia, y sustentación de su present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 Intente realizar no más de 15 diapositivas (aproximadamente para 30 minutos de presentació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ómo insertar imágenes, sonidos o video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19320" y="1600200"/>
            <a:ext cx="289548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r lo general, las imágenes, sonidos, o videos se consideran como objetos dentro del archivo de Power Po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r lo tanto, usar el menú insert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724280" y="152388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Ejemplo práctic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GotFilm_4-scanning" descr=""/>
          <p:cNvPicPr/>
          <p:nvPr/>
        </p:nvPicPr>
        <p:blipFill>
          <a:blip r:embed="rId1"/>
          <a:stretch/>
        </p:blipFill>
        <p:spPr>
          <a:xfrm>
            <a:off x="2590920" y="1981080"/>
            <a:ext cx="4038480" cy="3918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66"/>
                </a:solidFill>
                <a:latin typeface="Times New Roman"/>
              </a:rPr>
              <a:t>Cómo animar un texto o imágen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19320" y="1600200"/>
            <a:ext cx="289548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imar un texto es muy sencillo y resulta atractivo al presentar ideas claves en una present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1622520"/>
            <a:ext cx="3276720" cy="48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 texto o imagen no animado puede resultar similar a leer un texto en un lib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 no animar, no se aprovecha el potencial comunicador de las computador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presentación puede resultar tediosa y aburri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133720" y="4952880"/>
            <a:ext cx="1904760" cy="13161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295280" y="3962520"/>
            <a:ext cx="335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so puede insertar narracion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Recomendación final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1371600"/>
            <a:ext cx="67053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frute el ser profesional a la hora de comunicar la sistematización de sus experiencias. A trabajar 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124080" y="2514600"/>
            <a:ext cx="3886200" cy="3944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Qué es la comunicación, en el  contexto de la sistematización?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23880" y="2666880"/>
            <a:ext cx="655344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La comunicación es la transferencia e intercambio de conocimientos y experiencias, para lograr transformaciones o la implementación de procesos"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657600" y="205740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Qué medios utilizamos para comunicar información?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19320" y="1828800"/>
            <a:ext cx="2819160" cy="25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scritos..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b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s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ípt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19320" y="4495680"/>
            <a:ext cx="3276360" cy="16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Video y sonido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elevi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a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181480" y="1828800"/>
            <a:ext cx="3276720" cy="25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formáticos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media: combinación de elementos de texto, video y soni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LIBROS" descr=""/>
          <p:cNvPicPr/>
          <p:nvPr/>
        </p:nvPicPr>
        <p:blipFill>
          <a:blip r:embed="rId1"/>
          <a:stretch/>
        </p:blipFill>
        <p:spPr>
          <a:xfrm>
            <a:off x="3276720" y="2057400"/>
            <a:ext cx="1109520" cy="1971720"/>
          </a:xfrm>
          <a:prstGeom prst="rect">
            <a:avLst/>
          </a:prstGeom>
          <a:ln w="0">
            <a:noFill/>
          </a:ln>
        </p:spPr>
      </p:pic>
      <p:pic>
        <p:nvPicPr>
          <p:cNvPr id="138" name="VIDEOS" descr=""/>
          <p:cNvPicPr/>
          <p:nvPr/>
        </p:nvPicPr>
        <p:blipFill>
          <a:blip r:embed="rId2"/>
          <a:stretch/>
        </p:blipFill>
        <p:spPr>
          <a:xfrm>
            <a:off x="4114800" y="4648320"/>
            <a:ext cx="1066680" cy="1895400"/>
          </a:xfrm>
          <a:prstGeom prst="rect">
            <a:avLst/>
          </a:prstGeom>
          <a:ln w="0">
            <a:noFill/>
          </a:ln>
        </p:spPr>
      </p:pic>
      <p:pic>
        <p:nvPicPr>
          <p:cNvPr id="139" name="datashow2" descr=""/>
          <p:cNvPicPr/>
          <p:nvPr/>
        </p:nvPicPr>
        <p:blipFill>
          <a:blip r:embed="rId3"/>
          <a:stretch/>
        </p:blipFill>
        <p:spPr>
          <a:xfrm>
            <a:off x="6095880" y="4419720"/>
            <a:ext cx="2181240" cy="21812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172200" y="4800600"/>
            <a:ext cx="22096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ma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Ventajas de preparar una presentación multimedia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3962520" y="2057400"/>
          <a:ext cx="3965400" cy="426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2057400"/>
                    <a:ext cx="396540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1295280" y="220968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¿Cómo aprendem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28800" y="37339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95280" y="2286000"/>
            <a:ext cx="6324840" cy="247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or lo tan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principal ventaja de usar herramientas multimedia para comunicar experiencias sistematizadas es que se cubre al menos el 87.5% de los canales de aprendizaje del ser huma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tras ventajas..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828800" y="37339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00200" y="2514600"/>
            <a:ext cx="6324480" cy="120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multiplicación y difusión de mensaj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3880" y="1600200"/>
            <a:ext cx="6324840" cy="6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establecimiento de rel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676520" y="3886200"/>
            <a:ext cx="6324480" cy="231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creación de significados comunes que llevan a la acción y al desarrollo de niveles superiores de conoci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362320" y="2514600"/>
            <a:ext cx="4519440" cy="34671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648320" y="3200400"/>
            <a:ext cx="3717720" cy="33526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5105520" y="609480"/>
            <a:ext cx="2033640" cy="3391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66"/>
                </a:solidFill>
                <a:latin typeface="Times New Roman"/>
              </a:rPr>
              <a:t>Cómo preparar una presentación</a:t>
            </a:r>
            <a:br>
              <a:rPr sz="4000"/>
            </a:br>
            <a:r>
              <a:rPr b="0" i="1" lang="es-ES_tradnl" sz="2800" spc="-1" strike="noStrike">
                <a:solidFill>
                  <a:srgbClr val="003366"/>
                </a:solidFill>
                <a:latin typeface="Times New Roman"/>
              </a:rPr>
              <a:t>Consejos de Dale Carnegi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828800" y="37339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828800" y="1828800"/>
            <a:ext cx="6324480" cy="360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. Plan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. Prepar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3. Prob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4. Present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1. PLANEAR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828800" y="37339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47920" y="1219320"/>
            <a:ext cx="7086600" cy="535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 Describa la audiencia y su relación. Su conocimiento y experiencia, sus necesidades, deseos y objetivos. Pregúntese a sí mismo, "¿Qué sabe mi audiencia sobre este tema?"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 Defina la finalidad de la presentación y el resultado que busca. Pregúntese: ¿Qué quiero que la audiencia piense o haga cuando termine esta presentación?. Cuando aclare este punto, podrá conseguir mas fácilmente su objetiv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 Planee el contenido de la presentación en función de la finalidad y del grado de comprensión e interés del público. Utilice palabras y frases con las que la audiencia está familiarizada y céntrese en el objetivo busc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962520" y="1523880"/>
            <a:ext cx="1295280" cy="3934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2. PREPARAR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28800" y="37339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23880" y="1143000"/>
            <a:ext cx="7086600" cy="535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 Pregúntese: "¿Por qué es más importante este mensaje para mí?"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 Prepare un comienzo que despierte interés. (5 al 10 por ciento de la presentació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 Determine las ideas clave del mensaje y respáldelas con hechos, pruebas como estadísticas, testimonios, demostraciones y analogías. (80 al 85 por ciento de la presentació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 Prepare un final brillante que apoye su propósito y cree una impresión duradera. Independientemente del final que decida, asegúrese de decir al publico la acción que desea que realice. (5 al 10 por ciento de la presentació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235320" y="1552680"/>
            <a:ext cx="2673360" cy="3752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3. PROBAR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828800" y="37339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1676520"/>
            <a:ext cx="7086600" cy="389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 Claridad del mens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 Sustento de ideas cl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 Atractivo de las imáge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 Atiende los intereses del públ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 Impacto del final de la pres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 Practicar para evitar el nerviosismo o para mejorar la pres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 Los límites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865840" y="457200"/>
            <a:ext cx="2881440" cy="28954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5867280" y="304920"/>
            <a:ext cx="3063960" cy="3147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30T06:11:24Z</dcterms:created>
  <dc:creator>xx</dc:creator>
  <dc:description/>
  <dc:language>en-US</dc:language>
  <cp:lastModifiedBy>Raul Mauro</cp:lastModifiedBy>
  <dcterms:modified xsi:type="dcterms:W3CDTF">2002-07-04T17:26:09Z</dcterms:modified>
  <cp:revision>80</cp:revision>
  <dc:subject/>
  <dc:title>NUEVAS FORMAS DE COMUNICACION UTILIZANDO HERRAMIENTAS MULTIMEDIA</dc:title>
</cp:coreProperties>
</file>